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9E274-78CC-4F74-B2AA-F803E23E6C95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panoramic radio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cephalometric radio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Overall and regional superimpositions of pretreatment and posttreatment cephalometric tracing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panoramic radio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lateral cephalometric radio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lacement of endosseous implants in the maxillary arch on the left side and a miniplate in the mandibular arch on the right sid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Intraoral photographs after orthodontic treat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hotographs after interdisciplinary treat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lsevier.com/termsandcondition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260360"/>
            <a:ext cx="8640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Interdisciplinary approach for increasing the vertical dimension of occlusion in an adult patient with several missing teeth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Flavio Uribe, Nandakumar Janakiraman, Ravindra Nanda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 143, Issue 6, Pages 867-876 (June 201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ajodo.2012.05.0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2360" y="1673280"/>
            <a:ext cx="6350040" cy="3160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24200" y="762120"/>
            <a:ext cx="3546360" cy="4984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22360" y="876240"/>
            <a:ext cx="6350040" cy="475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65200" y="762120"/>
            <a:ext cx="6264360" cy="498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22360" y="1414440"/>
            <a:ext cx="6350040" cy="3679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22360" y="1690560"/>
            <a:ext cx="6350040" cy="312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08360" y="762120"/>
            <a:ext cx="3576600" cy="498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2360" y="1743120"/>
            <a:ext cx="6350040" cy="302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2360" y="1736640"/>
            <a:ext cx="6350040" cy="3036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17760" y="762120"/>
            <a:ext cx="6161040" cy="4984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22360" y="1414440"/>
            <a:ext cx="6350040" cy="367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3, 867-876DOI: (10.1016/j.ajodo.2012.05.02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